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32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wmf" ContentType="image/x-wmf"/>
  <Override PartName="/ppt/media/image4.png" ContentType="image/png"/>
  <Override PartName="/ppt/media/image21.png" ContentType="image/png"/>
  <Override PartName="/ppt/media/image19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  <p:sldId id="276" r:id="rId42"/>
    <p:sldId id="277" r:id="rId43"/>
    <p:sldId id="278" r:id="rId44"/>
    <p:sldId id="279" r:id="rId45"/>
    <p:sldId id="280" r:id="rId46"/>
    <p:sldId id="281" r:id="rId47"/>
    <p:sldId id="282" r:id="rId48"/>
    <p:sldId id="283" r:id="rId49"/>
    <p:sldId id="284" r:id="rId50"/>
    <p:sldId id="285" r:id="rId51"/>
    <p:sldId id="286" r:id="rId52"/>
    <p:sldId id="287" r:id="rId53"/>
    <p:sldId id="288" r:id="rId54"/>
    <p:sldId id="289" r:id="rId55"/>
    <p:sldId id="290" r:id="rId56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slide" Target="slides/slide21.xml"/><Relationship Id="rId43" Type="http://schemas.openxmlformats.org/officeDocument/2006/relationships/slide" Target="slides/slide22.xml"/><Relationship Id="rId44" Type="http://schemas.openxmlformats.org/officeDocument/2006/relationships/slide" Target="slides/slide23.xml"/><Relationship Id="rId45" Type="http://schemas.openxmlformats.org/officeDocument/2006/relationships/slide" Target="slides/slide24.xml"/><Relationship Id="rId46" Type="http://schemas.openxmlformats.org/officeDocument/2006/relationships/slide" Target="slides/slide25.xml"/><Relationship Id="rId47" Type="http://schemas.openxmlformats.org/officeDocument/2006/relationships/slide" Target="slides/slide26.xml"/><Relationship Id="rId48" Type="http://schemas.openxmlformats.org/officeDocument/2006/relationships/slide" Target="slides/slide27.xml"/><Relationship Id="rId49" Type="http://schemas.openxmlformats.org/officeDocument/2006/relationships/slide" Target="slides/slide28.xml"/><Relationship Id="rId50" Type="http://schemas.openxmlformats.org/officeDocument/2006/relationships/slide" Target="slides/slide29.xml"/><Relationship Id="rId51" Type="http://schemas.openxmlformats.org/officeDocument/2006/relationships/slide" Target="slides/slide30.xml"/><Relationship Id="rId52" Type="http://schemas.openxmlformats.org/officeDocument/2006/relationships/slide" Target="slides/slide31.xml"/><Relationship Id="rId53" Type="http://schemas.openxmlformats.org/officeDocument/2006/relationships/slide" Target="slides/slide32.xml"/><Relationship Id="rId54" Type="http://schemas.openxmlformats.org/officeDocument/2006/relationships/slide" Target="slides/slide33.xml"/><Relationship Id="rId55" Type="http://schemas.openxmlformats.org/officeDocument/2006/relationships/slide" Target="slides/slide34.xml"/><Relationship Id="rId56" Type="http://schemas.openxmlformats.org/officeDocument/2006/relationships/slide" Target="slides/slide35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"/>
          <p:cNvSpPr/>
          <p:nvPr/>
        </p:nvSpPr>
        <p:spPr>
          <a:xfrm>
            <a:off x="0" y="0"/>
            <a:ext cx="68004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dt" idx="2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 type="ftr" idx="22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6"/>
          <p:cNvSpPr>
            <a:spLocks noGrp="1"/>
          </p:cNvSpPr>
          <p:nvPr>
            <p:ph type="sldNum" idx="23"/>
          </p:nvPr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9E0F5E8-AEEE-4F7E-A1E2-0B8A7B677A36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Slide Number Placeholder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6F65C32-3206-41B4-AF5B-1F8E8154F52F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Slide Number Placeholder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F86B274-3CC7-4AA1-93A4-6062D5D5F2A0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ECDD-141D-428B-9FBD-525C17C54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4C5E-1FA3-4D99-A8FB-193533E66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422ED2-9888-460C-8B2F-3FD105A1F567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7AB3D1-5965-465A-B4FA-CA29D9AE3477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EBD7AE-5C5C-4281-AA67-BD37A464E4B5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6EBDC4-0692-41F4-BB8F-B9296C19514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38ED24-9118-43D4-A674-FD460496CF00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9A9C27-FF0D-4AF8-A807-2F7263FFB50E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2D8BB6-19DB-48C9-9086-F07BCDB53748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ADF5EE-C67F-465F-ACC9-5A3AD42E202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39656E-1C2B-4724-83B4-309424C807DC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1EF449-492E-4FC8-B766-558FF5ECF8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16EC-66C5-45E7-BA06-523AEF615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2C1998-AF5B-4079-80E4-59718780DF16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8EA9CE-4B42-4A4B-AFD7-FAC94E4D6C5D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9B8EA3-19C8-4BCC-A47B-AE027DCE6E2D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D0BEB4-A914-4DC9-8DCD-106414995977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0BEB15-65DA-4F94-A89A-C3F1B68802F9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8ED240-4B82-4438-97C5-77527FC53FEA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4D63DF-B29B-46C1-BB05-15CA40D1B559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0976C0-1A29-461A-8D54-92722A6CAF58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A6B095-83CA-4F7C-9888-E75BFC525F4C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4C2F56-A124-4F0B-B047-3371079244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EB7E-2EBF-40A2-9C57-1483C8041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1060CB-8C1C-4373-ADD9-016E1671CA3F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C394F-27DB-4D90-B1A5-3D6E01BE26D8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5A5A4-745B-48F1-8BDB-51372BC31C2E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CA568-08A4-4B17-8D09-5063FF4B8F75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CFD75-EF27-4C17-A93E-C81B07D7D884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459F1-102C-48BE-AA6B-77F548EEB848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FFF01-EC0B-4C97-BC06-1CCA11B4B6EE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05644-D4F1-4DD8-84F3-FCFA19DA4BE5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7AF207-A02A-4524-B039-3830F506DBB7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41D31-73B5-4EFA-BD06-0A59B2E638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720BA-10DD-4B96-96BC-B618948271A6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0594D-106A-4EB7-87AD-5D777DDFB905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6FD46-59B1-4F22-A50E-CDD8E89B2060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5353E40-165F-427D-8F1F-61C9F33B407C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A5FF092-F690-41CD-A94B-903983695684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2274EF2-9452-462E-A273-3B82AE156CE4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3E49A96-FC4A-4FE0-AC1D-7094027A0EF6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E36F1E5-9EE0-48B4-A806-7E71C824FAF8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6AE807B-FB9D-4D6C-9A2D-9C5690097045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C32668F-6ACF-48B2-9F5F-CC94B7613DD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C883520-15B2-4960-B000-1311689D72B5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0A8D17D-476D-4AD7-A12F-0360A9B5A225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01435CC-6EAE-4479-B5F4-D27DFF2AA21F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1EAA56C-1981-4943-A3ED-F65D3719D4C1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5AF22BF-F709-4F6E-9D63-082136E7A30F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857FDF-DD38-4013-B929-98B9A66E398C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7CA972-3AD6-458F-8555-FA045BEBA1BC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08BF83-6595-4AA6-A0C1-751CBB4B47C2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48E8FC-DD19-494A-9D64-1E3243035ABC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603DEA-165A-4BD6-A0A6-56238D2F593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B3ACC0-4E1D-4BCB-ABB2-F4047900C86D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315CF2-3931-4110-A8DA-152140079C5E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C0191B-FEF1-4869-B366-2716D87F53C6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AC3FA7-39D0-49B6-84B3-72F7E000E6C0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78F3D3-90A5-4A24-8444-B9184917BDD3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F01681-5376-4225-83AE-AD96E624AFAE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F8BD5D-1C30-4478-A942-B36F1F840849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63DEAA-004D-486D-9DDE-05E449CBE9EC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80194D-87ED-4BFF-9A2E-8308A38B86D1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199896-25FE-4735-8E8A-42D0D92BEE0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636F12-4215-4D42-BEC5-E4685FD6B727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9A950C-8AA9-49CB-9036-05A9620427FE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C329E3-59F3-45AB-9C40-C5663BF64B0F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0BAF84-339F-46A2-BB9C-3003F76CAAB4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939449-E3A1-4C0E-AADD-3739E45B7848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8AFD92-20E0-4294-83CA-993BC3CC043B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00A01F-477E-4F39-BF7A-475266B8D4D6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D12FE9-C790-4339-B7CD-EBC7E3176514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84E22E-4547-4D7A-8ABC-07D4F44D82B0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217369C-CB58-4592-88EA-05D44E238D6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8206A6E-DCAF-46F5-B41E-5C310FA31D56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ABC1382-C683-47C1-ABBE-A29253F47792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028FA6B-9088-4F41-9B71-5E7A3C6B654D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ED3AF07-0ECB-40BB-B8BF-1768D85A155F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70019E8-AE7D-4FD6-832D-C2AC539E46BA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64F170E-76F6-4834-9B87-E02BFE03E1D6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5239F0E-0D1C-4085-8482-1EAD2EB64658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365E7E0-0843-4644-B2E6-824060D17B56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081BA50-ADD1-4BC5-8BE4-71B2D101B6BE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154A10C-B584-4A77-8D18-525910FF8D9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AC5BE51-C68E-4403-ACBD-E332E966C128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532817-8DF0-4E38-B74A-AE5F017069CC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7064F9-02A1-47E3-A995-31EAB9BAF2D1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949834-A8D9-487E-BDEC-00909B6DDA98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827948-A5C2-45B5-B4EB-F3B093348930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81EAFD-20C1-4C06-B904-26E23B1DA394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9C2428-E83B-4ED0-8756-64F59DF01712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4D2168-6A4C-4D12-9449-E746DA063A45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0A6CD9-CE63-48B6-BB17-5A58220FB5A5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28E0A1-8A29-48CD-AB91-06E0D864B11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816BF8-DC0C-4D74-9CF9-11A7C593F2FD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BCBABF-6850-4E55-8CD0-26233B2D581F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73663D-439D-494B-BF31-7D3ACA5CB6B3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FBE8-3146-4930-874C-5F3AF251F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27A7F5-4FB1-4EF0-A0D9-77507482B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516FFA-D073-4D92-9E04-145C8B8B0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2F2B1B-0400-48C9-80AA-A008728E4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468810-440E-4A6C-A64F-F06C46326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B9D925-1107-4CE3-833E-1AFF5CADE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645768-D43F-476A-A895-DDA3607DD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14FCE9-C82B-4568-A7A1-9A98BE929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D900E6-AC03-4B24-811B-1C0E238DD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5D6029-1E7D-405C-84A7-D32764AA6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8E636B-B9DB-4782-ADDA-A030CE837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DDE758-06A4-4B77-93A6-2A21CF8EA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6AAF05-80A7-4DB9-9676-A743FEB59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90D54F-35D6-4DB9-88DF-0C20AF4308C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E48E34-AFE1-43D3-AB85-A98A24DBB71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0AF2FA-322F-417B-8268-AAB4BCCBDA3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220FA0-9C55-442C-9CCC-7AFF81B6FF4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6EA22F-4DE2-4BEE-AFA3-B05E2517F2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640E-519A-438F-82C1-5C42EAC97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AF11E5-4B2D-4B46-BCB0-1D7250A4059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ACCCEB-80A9-4EAE-9C36-FFE445DE47D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E0BF78-3DFD-4587-9C04-53E593EFAB9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B98054-E3C7-40FF-AB6F-EB7BBC693EA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EE964D-31F8-46C3-A3E2-7CDA757B5C0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CEB3FF-9E6C-44E8-95E2-35AFDB2B30C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B763FE-9484-48B3-939E-8BD9A9D9622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8BB070-63AE-4C56-9B8E-C079D074F87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882F96-5673-43A0-9001-1C650849CC7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DE3019-BDB5-4C21-A22D-7B6F537BA9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F4A7-B0D2-40B7-88D0-1F37AD94B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09F89A-B35C-4F3B-9669-75E590EBF95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50E50F-DF9F-4B38-918D-2FC8E5C02CE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97A3B7-536F-46C0-98B9-AE5557F1458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5A3767-3BFF-4BD9-9B25-773156E358F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DE8AEB-20D8-439B-9B55-B1BCDCF79B2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0BFD81-CF1E-4D01-8374-782307A94A5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017FA0-11DA-45AD-A465-405A8F3B900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DB4EC7-459D-4559-AF0F-50D78008899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15BEE2-BC15-4934-8A76-566D43C5EE0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9BDF3-0F9C-4A02-BD8F-2937AF4153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15A7-F493-49D9-842B-87165B9BE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DDC02-D812-4CB2-B41D-15974A1223C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94FB6-F77C-474A-8A7A-578A097E0D3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CC20A-F51D-44B6-A9C8-8E9A871EFD8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98F6F-EC21-42FD-A8D5-F0FD45EECB9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CA8A2-D5AE-4E36-868D-794428D37CD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55BF7-51DD-47A5-A90E-F7DB728F8B2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6A0E9-24B1-4FE3-AD4F-A5110FD5903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4AC2F-E568-4EF6-9DD2-2F60E9AC52E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5C832-BA46-4C5F-93A2-FD7A5BBCBCF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C00B3-F80F-478A-9474-B5593B84AE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FE3B-5364-4E63-BCDD-4855195D8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2098E-9576-4544-93A3-D1A8A304B4F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7B03EF-6FB9-4884-ABF4-1C51A34528E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000ECC-8E72-46BC-8A04-37CC158C547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54E4CF-417F-478E-B362-141E3672F7C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EA2D8B-F18D-498C-8C08-976EB57102F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EC2155-6098-4AF6-8009-50E2DFFA90B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E3D11A-784B-4F1F-B2FF-0AA5A915D23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D81606-34F7-477D-8439-2C9F0DEBC07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368620-C080-437B-93F4-87B22751622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0EBF08-9503-4A85-9420-851FF454C6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7969-BD23-4546-92E4-1083B4B51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48C17B-82C4-4370-B42E-1EE9C012494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F971C5-10DF-450C-A923-E6A6B05D375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CA0E4B-4F65-4C44-8151-7AC82B7EA1C4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7D7EC2-9E73-4ED4-B1F2-523678B6B4E5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0B5EAB-2073-4AFF-A0D2-985222DD1671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977757-4F7F-4E39-83F4-D9044E82300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E3E64A-C78E-49F9-83E5-B7D500FA9EE8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98BFBE-72DC-407E-9984-6C80309F487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4D4B73-0193-41F0-966C-3C817CBD8B73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5CF557-C6D9-4E14-8688-EF7400AA56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95D6-4F6E-40FF-9644-AF8945B34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26E557-8CFE-4A5B-AF2D-CDDC0A2A734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04AA2A-B0E2-48BC-809D-BDDB36E559D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99C4CD-4E46-4C73-8F8A-111E3D4179AF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275175-AA11-45E2-A7F2-E76ED0E4C77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2ECA3D-A354-45C0-868D-ABA626AF8FBA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51B08-5AA7-4468-943C-DD35FE2E26E6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2A23E-F41F-401F-A3EE-AD7F296C4BEB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6CE18-47C4-45AC-B49B-7A149A1198A4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B6E27-AC81-4FC1-B56B-58400289CB7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02ACF-A703-4F4E-8A7B-FB8DAE94E8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4507-A996-4DF8-B8D7-8505931B6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4C17E-02FF-45F9-B7F6-B38BB064DFE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3EB45-950D-491B-9BED-762BF971728A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818F7-56DE-4117-99DD-1B691F3942DA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755FB-03A0-4334-AFE7-E749876D1BD3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31152-2D5C-4556-8096-1155B1973832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5773F-B6A7-4882-98CA-76FBDFB2A3D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90474-A139-4BF2-88DF-CB8A29638685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9552F4-3A1F-4F71-AE50-8ABEB6ECA915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B78AB0-3F76-43F2-8911-0C9310EC9E87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F5CEA0-635B-48A7-B460-1E7C0F0D85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2B5907A-EF9D-40C1-B672-9DACCE4F0192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F049256-3C99-49C1-8A22-B06D054E10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sldNum" idx="11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984A4FC-2D67-4F0C-ADBA-64FB23C019D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sldNum" idx="12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D98FEDC-7589-4C3B-8C45-AC369B693763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sldNum" idx="13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96DD2C3-42D6-408E-A8F3-F34D29857A33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Num" idx="1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70173FF-4731-4DFB-983E-1E9C2FA059E6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sldNum" idx="1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BFAD450-7214-4A06-9A72-286A5D6DC3D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 type="sldNum" idx="1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0D74793-A645-40F8-94F6-EF3C3213CFB6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sldNum" idx="1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3180433-EBF8-4E97-BA0D-B8778E93ACF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8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8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28232AC-EE8A-4FAA-B1C7-FA5A304F119E}" type="datetime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A6DFB14-12D6-4749-931F-C4427BBCD1F5}" type="slidenum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2563920" y="6629400"/>
            <a:ext cx="6586560" cy="246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"/>
          <p:cNvPicPr/>
          <p:nvPr/>
        </p:nvPicPr>
        <p:blipFill>
          <a:blip r:embed="rId4"/>
          <a:stretch/>
        </p:blipFill>
        <p:spPr>
          <a:xfrm>
            <a:off x="419040" y="6141960"/>
            <a:ext cx="1714680" cy="487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A6496F3-1B86-482F-BCBC-FC340BCC9CC6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DA522A1-4AD0-45A3-8F8F-816046234CC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90649FC-09D9-474A-9529-0986BC5F24D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Num" idx="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98A563A-3302-40F0-8D8C-306AFBA93EB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Num" idx="8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4B9783E-105C-4750-BB54-52A9DFACDC3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sldNum" idx="9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3766374-5A28-4895-96AA-F0506F64EE6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Num" idx="10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1056F82-C293-48C2-BD9E-5D39994726C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1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1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1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1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141640" y="991800"/>
            <a:ext cx="6316560" cy="1260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Calibri"/>
                <a:ea typeface="Verdana"/>
              </a:rPr>
              <a:t>Projektu pieteikumu aizpildīšanas seminārs </a:t>
            </a:r>
            <a:br>
              <a:rPr sz="2800"/>
            </a:br>
            <a:r>
              <a:rPr b="1" lang="lv-LV" sz="3300" spc="-1" strike="noStrike">
                <a:solidFill>
                  <a:srgbClr val="0b7d91"/>
                </a:solidFill>
                <a:latin typeface="Calibri"/>
                <a:ea typeface="Verdana"/>
              </a:rPr>
              <a:t>Sagatavošanas vizītēm </a:t>
            </a:r>
            <a:br>
              <a:rPr sz="2600"/>
            </a:b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1865160" y="2887560"/>
            <a:ext cx="6818400" cy="1201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600" spc="-1" strike="noStrike">
                <a:solidFill>
                  <a:srgbClr val="0b7d91"/>
                </a:solidFill>
                <a:latin typeface="Calibri"/>
                <a:ea typeface="Verdana"/>
              </a:rPr>
              <a:t>Jauniešu izglītības, Pieaugušo izglītības un Ziemeļvalstu valodu projektu sagatavošanai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2238480" y="4088880"/>
            <a:ext cx="5829120" cy="668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2021.gada 7.septembrī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8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779" name="Text Placeholder 3"/>
          <p:cNvSpPr/>
          <p:nvPr/>
        </p:nvSpPr>
        <p:spPr>
          <a:xfrm flipV="1" rot="10800000">
            <a:off x="3795840" y="5058360"/>
            <a:ext cx="48686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VIAA Izglītības atbalsta un starptautiskās sadarbības departament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Starptautisko sadarbības programmu nodaļas vec. proj.vad. </a:t>
            </a:r>
            <a:r>
              <a:rPr b="1" lang="lv-LV" sz="1500" spc="-1" strike="noStrike">
                <a:solidFill>
                  <a:srgbClr val="002060"/>
                </a:solidFill>
                <a:latin typeface="Verdana"/>
              </a:rPr>
              <a:t>Linards Deidul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603160" y="45864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 programmas kop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ējā statisti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9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810" name=""/>
          <p:cNvSpPr txBox="1"/>
          <p:nvPr/>
        </p:nvSpPr>
        <p:spPr>
          <a:xfrm>
            <a:off x="484200" y="2182320"/>
            <a:ext cx="5330880" cy="460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http://statistikk.nordplusonline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1" name="Picture 1" descr=""/>
          <p:cNvPicPr/>
          <p:nvPr/>
        </p:nvPicPr>
        <p:blipFill>
          <a:blip r:embed="rId2"/>
          <a:stretch/>
        </p:blipFill>
        <p:spPr>
          <a:xfrm>
            <a:off x="268200" y="3243240"/>
            <a:ext cx="846288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603160" y="458280"/>
            <a:ext cx="6095880" cy="1282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5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 2019. gada </a:t>
            </a:r>
            <a:r>
              <a:rPr b="1" lang="lv-LV" sz="2500" spc="-1" strike="noStrike" u="sng">
                <a:solidFill>
                  <a:srgbClr val="0b7d91"/>
                </a:solidFill>
                <a:uFillTx/>
                <a:latin typeface="Verdana"/>
                <a:ea typeface="Verdana"/>
              </a:rPr>
              <a:t>sagatavošanas vizīšu 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konkursa rezultāti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3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14" name=""/>
          <p:cNvGraphicFramePr/>
          <p:nvPr/>
        </p:nvGraphicFramePr>
        <p:xfrm>
          <a:off x="1082520" y="2300400"/>
          <a:ext cx="7755120" cy="3205080"/>
        </p:xfrm>
        <a:graphic>
          <a:graphicData uri="http://schemas.openxmlformats.org/drawingml/2006/table">
            <a:tbl>
              <a:tblPr/>
              <a:tblGrid>
                <a:gridCol w="2109960"/>
                <a:gridCol w="1257120"/>
                <a:gridCol w="1573200"/>
                <a:gridCol w="1249560"/>
                <a:gridCol w="1565280"/>
              </a:tblGrid>
              <a:tr h="1042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rogrammas vei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Iesniegtie projekti no visām dalībvalstī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pstiprinātie projekti visām dalībvalstī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atvijas pieteicēju iesniegtie projek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atvijas pieteicēju  apstiprinātie projek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7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Jaunieš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ieaugušo izglītīb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Ziemeļvalstu valod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Kopā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2 (76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8 (57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5" name="Rectangle 41"/>
          <p:cNvSpPr/>
          <p:nvPr/>
        </p:nvSpPr>
        <p:spPr>
          <a:xfrm>
            <a:off x="4822920" y="-39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603160" y="458280"/>
            <a:ext cx="6095880" cy="1282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5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 2020. gada </a:t>
            </a:r>
            <a:r>
              <a:rPr b="1" lang="lv-LV" sz="2500" spc="-1" strike="noStrike" u="sng">
                <a:solidFill>
                  <a:srgbClr val="0b7d91"/>
                </a:solidFill>
                <a:uFillTx/>
                <a:latin typeface="Verdana"/>
                <a:ea typeface="Verdana"/>
              </a:rPr>
              <a:t>sagatavošanas vizīšu 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konkursa rezultāti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7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18" name=""/>
          <p:cNvGraphicFramePr/>
          <p:nvPr/>
        </p:nvGraphicFramePr>
        <p:xfrm>
          <a:off x="1082520" y="2300400"/>
          <a:ext cx="7755120" cy="3506760"/>
        </p:xfrm>
        <a:graphic>
          <a:graphicData uri="http://schemas.openxmlformats.org/drawingml/2006/table">
            <a:tbl>
              <a:tblPr/>
              <a:tblGrid>
                <a:gridCol w="2109960"/>
                <a:gridCol w="1257120"/>
                <a:gridCol w="1573200"/>
                <a:gridCol w="1249560"/>
                <a:gridCol w="1565280"/>
              </a:tblGrid>
              <a:tr h="1042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rogrammas vei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Iesniegtie projekti no visām dalībvalstī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pstiprinātie projekti visām dalībvalstī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atvijas pieteicēju iesniegtie projek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atvijas pieteicēju  apstiprinātie projek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658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Jaunieš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ieaugušo izglītīb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Ziemeļvalstu valod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Kopā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7 (64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 (50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9" name="Rectangle 41"/>
          <p:cNvSpPr/>
          <p:nvPr/>
        </p:nvSpPr>
        <p:spPr>
          <a:xfrm>
            <a:off x="4822920" y="-39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150640" y="380880"/>
            <a:ext cx="653580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Paziņojums par 2021. gada sagatavošanas vizīšu konkursu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1235160" y="1692000"/>
            <a:ext cx="7526160" cy="4638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https://www.nordplusonline.org/news-calls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2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pic>
        <p:nvPicPr>
          <p:cNvPr id="823" name="Picture 2" descr=""/>
          <p:cNvPicPr/>
          <p:nvPr/>
        </p:nvPicPr>
        <p:blipFill>
          <a:blip r:embed="rId2"/>
          <a:stretch/>
        </p:blipFill>
        <p:spPr>
          <a:xfrm>
            <a:off x="1736640" y="2360520"/>
            <a:ext cx="631044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2150640" y="380880"/>
            <a:ext cx="653580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Pieteikumu sagatavošanas vizītēm vispārējie nosacījumi (I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 txBox="1"/>
          <p:nvPr/>
        </p:nvSpPr>
        <p:spPr>
          <a:xfrm>
            <a:off x="1994040" y="1530000"/>
            <a:ext cx="6767280" cy="4800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Sagatavošanas vizītes paredzētas, lai potenciālie projektu iesniedzēji tiktos ar potenciālajiem partneriem (uz projekta iesniegšanas laiku parteriem jābūt zināmiem!), sāktu plānot projektu un gatavotu projekta pieteikumu. Jābūt skaidrai projekta ideja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Pieteikumus sagatavošanas vizītēm iespējams iesniegt tikai </a:t>
            </a:r>
            <a:r>
              <a:rPr b="1" i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Nordplus Junior, Nordplus Adult un Nordplus Nordic Language </a:t>
            </a: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apakšprogrammā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Pieteikumu iesniegšanas termiņš </a:t>
            </a:r>
            <a:r>
              <a:rPr b="0" lang="lv-LV" sz="2000" spc="-1" strike="noStrike">
                <a:solidFill>
                  <a:srgbClr val="ff0000"/>
                </a:solidFill>
                <a:latin typeface="Calibri"/>
                <a:ea typeface="Verdana"/>
              </a:rPr>
              <a:t>– </a:t>
            </a:r>
            <a:r>
              <a:rPr b="1" lang="lv-LV" sz="2000" spc="-1" strike="noStrike">
                <a:solidFill>
                  <a:srgbClr val="ff0000"/>
                </a:solidFill>
                <a:latin typeface="Calibri"/>
                <a:ea typeface="Verdana"/>
              </a:rPr>
              <a:t>2021.gada 1.oktobris, plkst. 23.59.  pēc Norvēģijas laik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Pieteikums ir jāaizpilda </a:t>
            </a: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angļu valodā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Projektu pieteikumi jāaizpilda un jāiesniedz, izmantojot tiešsaistes sistēmu </a:t>
            </a:r>
            <a:r>
              <a:rPr b="0" i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Espresso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: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https://espresso.siu.no/espresso/login?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6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7" name="Picture 2" descr=""/>
          <p:cNvPicPr/>
          <p:nvPr/>
        </p:nvPicPr>
        <p:blipFill>
          <a:blip r:embed="rId1"/>
          <a:stretch/>
        </p:blipFill>
        <p:spPr>
          <a:xfrm>
            <a:off x="158760" y="457200"/>
            <a:ext cx="9121680" cy="50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2211120" y="380880"/>
            <a:ext cx="647532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Pieteikumu sagatavošanas vizītēm vispārējie nosacījumi (II)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 txBox="1"/>
          <p:nvPr/>
        </p:nvSpPr>
        <p:spPr>
          <a:xfrm>
            <a:off x="2123640" y="1590480"/>
            <a:ext cx="6475320" cy="4708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Sagatavošanas vizītē piedalās </a:t>
            </a:r>
            <a:r>
              <a:rPr b="0" lang="lv-LV" sz="2200" spc="-1" strike="noStrike" u="sng">
                <a:solidFill>
                  <a:srgbClr val="002060"/>
                </a:solidFill>
                <a:uFillTx/>
                <a:latin typeface="Calibri"/>
                <a:ea typeface="Verdana"/>
              </a:rPr>
              <a:t>ne mazāk kā divas izglītības iestādes/organizācijas no divām dažādām 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Nordplus programmas valstī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Sagatavošanas vizītes </a:t>
            </a:r>
            <a:r>
              <a:rPr b="0" lang="lv-LV" sz="2200" spc="-1" strike="noStrike" u="sng">
                <a:solidFill>
                  <a:srgbClr val="002060"/>
                </a:solidFill>
                <a:uFillTx/>
                <a:latin typeface="Calibri"/>
                <a:ea typeface="Verdana"/>
              </a:rPr>
              <a:t>maksimālais ilgums ir 5 dienas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, ieskaitot ceļā pavadīto laiku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Maksimāli viena sagatavošanas vizīte ar </a:t>
            </a: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maksimums 2 dalībniekiem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 no katras organizācijas/valsts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Sagatavošanas vizītēm Nordplus sedz 100% ceļa izdevumus un uzturēšanās izdevumus saskaņā ar likmē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Sagatavošanas vizīte īstenojama </a:t>
            </a: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no 2021.gada 1.novembra līdz 2022. gada 1.februārim 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(ja plānots iesniegt projektu 2022. gada projektu konkursam)</a:t>
            </a: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, vai līdz 2021./2022.mācību gada beigām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0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2141280" y="380880"/>
            <a:ext cx="65451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Pieteikumu sagatavošanas vizītēm vispārējie nosacījumi (III)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1897200" y="1506600"/>
            <a:ext cx="6789600" cy="4619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Uzņemošai institūcijai nekādi izdevumi saistībā ar sagatavošanas vizītēm netiek segti!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Pieteikumā iekļaujams detalizēts vizītes darba plāns (</a:t>
            </a:r>
            <a:r>
              <a:rPr b="0" i="1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schedule</a:t>
            </a:r>
            <a:r>
              <a:rPr b="0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)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Pieteikumā norādāmi konkrēti vizītes sasniedzamie mērķi attiecībā uz nākotnē plānoto projektu (kādi ir vizītes sagaidāmie rezultāti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Pieteikumam jāpievieno organizācijas paraksttiesīgās personas parakstīta Nodomu vēstule (</a:t>
            </a:r>
            <a:r>
              <a:rPr b="0" i="1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Letter of Intent</a:t>
            </a:r>
            <a:r>
              <a:rPr b="0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) par koordinatoru un par katru partneri (</a:t>
            </a:r>
            <a:r>
              <a:rPr b="0" i="1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Letter of Intent </a:t>
            </a:r>
            <a:r>
              <a:rPr b="0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izveido </a:t>
            </a:r>
            <a:r>
              <a:rPr b="0" i="1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Espresso</a:t>
            </a:r>
            <a:r>
              <a:rPr b="0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 sistēmā, aizpildot pieteikuma veidlapu)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3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itle 1"/>
          <p:cNvSpPr/>
          <p:nvPr/>
        </p:nvSpPr>
        <p:spPr>
          <a:xfrm>
            <a:off x="2266920" y="493560"/>
            <a:ext cx="609588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b7d91"/>
                </a:solidFill>
                <a:latin typeface="Verdana"/>
              </a:rPr>
              <a:t>Detalizēti apakšprogrammu apraksti pieejami Nordplus Rokasgrāmatā (IV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2"/>
          <p:cNvSpPr/>
          <p:nvPr/>
        </p:nvSpPr>
        <p:spPr>
          <a:xfrm>
            <a:off x="485640" y="2503440"/>
            <a:ext cx="3940200" cy="18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</a:rPr>
              <a:t>Katru gadu pirms projektu konkursa tiek publicēta rokasgrāmatas atjaunotā versi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</a:rPr>
              <a:t>2021.gada Nordplus Rokasgrāmata (angļu valodā) pieejama: </a:t>
            </a: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https://www.nordplusonline.org/how-to-apply/handbook/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6" name="Picture 2" descr=""/>
          <p:cNvPicPr/>
          <p:nvPr/>
        </p:nvPicPr>
        <p:blipFill>
          <a:blip r:embed="rId1"/>
          <a:stretch/>
        </p:blipFill>
        <p:spPr>
          <a:xfrm>
            <a:off x="5784840" y="1795320"/>
            <a:ext cx="287352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141280" y="380880"/>
            <a:ext cx="65451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Pieteikumu sagatavošanas vizītēm vispārējie nosacījumi (V)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TextBox 9"/>
          <p:cNvSpPr/>
          <p:nvPr/>
        </p:nvSpPr>
        <p:spPr>
          <a:xfrm>
            <a:off x="846000" y="4124160"/>
            <a:ext cx="2017800" cy="19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lv-LV" sz="1700" spc="-1" strike="noStrike">
                <a:solidFill>
                  <a:srgbClr val="002060"/>
                </a:solidFill>
                <a:latin typeface="Calibri"/>
                <a:ea typeface="Calibri"/>
              </a:rPr>
              <a:t>Nordplus Rokasgrāmata (2021.) par sagatavošanas vizītēm, 18.lpp; 44.lpp , 64.lpp, 65 lpp., 72.lpp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9" name="Picture 2" descr=""/>
          <p:cNvPicPr/>
          <p:nvPr/>
        </p:nvPicPr>
        <p:blipFill>
          <a:blip r:embed="rId1"/>
          <a:stretch/>
        </p:blipFill>
        <p:spPr>
          <a:xfrm>
            <a:off x="1952640" y="1189080"/>
            <a:ext cx="4826160" cy="2935080"/>
          </a:xfrm>
          <a:prstGeom prst="rect">
            <a:avLst/>
          </a:prstGeom>
          <a:ln w="0">
            <a:noFill/>
          </a:ln>
        </p:spPr>
      </p:pic>
      <p:pic>
        <p:nvPicPr>
          <p:cNvPr id="840" name="Picture 4" descr=""/>
          <p:cNvPicPr/>
          <p:nvPr/>
        </p:nvPicPr>
        <p:blipFill>
          <a:blip r:embed="rId2"/>
          <a:stretch/>
        </p:blipFill>
        <p:spPr>
          <a:xfrm>
            <a:off x="5280120" y="3538440"/>
            <a:ext cx="3481200" cy="34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2018-2022</a:t>
            </a: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1703520" y="1252440"/>
            <a:ext cx="744048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Ziemeļu Ministru padomes programma Ziemeļvalstu un Baltijas valstu sadarbībai izglītības jomā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5 apakšprogramma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Jaunieš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Augstākās izglītīb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Pieaugušo izglītība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Horizontālā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Ziemeļvalstu valod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Oficiālais portāls </a:t>
            </a: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https://www.nordplusonline.org/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Informācija VIAA portālā latviski </a:t>
            </a: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https://www.viaa.gov.lv/lv/nordplu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2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1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2141280" y="380880"/>
            <a:ext cx="65451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300" spc="-1" strike="noStrike">
                <a:solidFill>
                  <a:srgbClr val="0b7d91"/>
                </a:solidFill>
                <a:latin typeface="Verdana"/>
                <a:ea typeface="Verdana"/>
              </a:rPr>
              <a:t>Pieteikumu sagatavošanas vizītēm vispārējie nosacījumi (V) - finansēju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1773360" y="1506600"/>
            <a:ext cx="7161120" cy="4857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2060"/>
                </a:solidFill>
                <a:latin typeface="Calibri"/>
                <a:ea typeface="Verdana"/>
              </a:rPr>
              <a:t> </a:t>
            </a:r>
            <a:r>
              <a:rPr b="0" lang="lv-LV" sz="2500" spc="-1" strike="noStrike" u="sng">
                <a:solidFill>
                  <a:srgbClr val="002060"/>
                </a:solidFill>
                <a:uFillTx/>
                <a:latin typeface="Calibri"/>
                <a:ea typeface="Verdana"/>
              </a:rPr>
              <a:t>Ceļa izdevumi  (abos virzienos) </a:t>
            </a:r>
            <a:r>
              <a:rPr b="0" lang="lv-LV" sz="2500" spc="-1" strike="noStrike">
                <a:solidFill>
                  <a:srgbClr val="002060"/>
                </a:solidFill>
                <a:latin typeface="Calibri"/>
                <a:ea typeface="Verdana"/>
              </a:rPr>
              <a:t>tiek finansēti šādā apmērā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4840" indent="-342720" algn="just">
              <a:lnSpc>
                <a:spcPct val="11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Times New Roman"/>
              </a:rPr>
              <a:t>Uz Islandi un Fēru salām – </a:t>
            </a: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Times New Roman"/>
              </a:rPr>
              <a:t>660 eur 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Times New Roman"/>
              </a:rPr>
              <a:t>1 dalībnieka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4840" indent="-342720" algn="just">
              <a:lnSpc>
                <a:spcPct val="11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Times New Roman"/>
              </a:rPr>
              <a:t>Uz Dāniju, Igauniju, Somiju, Ālandu salām, Norvēģiju, Zviedriju, Lietuvu - </a:t>
            </a: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Times New Roman"/>
              </a:rPr>
              <a:t>330 eur 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Times New Roman"/>
              </a:rPr>
              <a:t>1 dalībnieka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4840" indent="-342720" algn="just">
              <a:lnSpc>
                <a:spcPct val="11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Times New Roman"/>
              </a:rPr>
              <a:t>Ceļa izdevumi savā  valstī, ja pārsniedz 500 km – 150 eur 1 dalībniekam. (uz Latviju nav attiecinām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 u="sng">
                <a:solidFill>
                  <a:srgbClr val="002060"/>
                </a:solidFill>
                <a:uFillTx/>
                <a:latin typeface="Calibri"/>
                <a:ea typeface="Verdana"/>
              </a:rPr>
              <a:t>Uzturēšanās izdevumi 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tiek finansēti </a:t>
            </a: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70 eur 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apmērā par 1 diennakti 1 dalībniekam.</a:t>
            </a:r>
            <a:r>
              <a:rPr b="0" lang="en-US" sz="2000" spc="-1" strike="noStrike">
                <a:solidFill>
                  <a:srgbClr val="002060"/>
                </a:solidFill>
                <a:latin typeface="Calibri"/>
                <a:ea typeface="Verdan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alibri"/>
                <a:ea typeface="Verdana"/>
              </a:rPr>
              <a:t>Pieteikuma veidlap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ā budžeta aprēķini notiek </a:t>
            </a: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automātiski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, ievadot brauciena dalībnieku skaitu, dienu skaitu un apmeklējamo valst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4840" indent="-3427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2168640" y="380880"/>
            <a:ext cx="65181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Jauniešu apakšprogram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2072880" y="1289160"/>
            <a:ext cx="6613560" cy="48369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92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Mērķa grupa</a:t>
            </a:r>
            <a:r>
              <a:rPr b="1" lang="lv-LV" sz="2000" spc="-1" strike="noStrike">
                <a:solidFill>
                  <a:srgbClr val="0b7d91"/>
                </a:solidFill>
                <a:latin typeface="Calibri"/>
                <a:ea typeface="Verdana"/>
              </a:rPr>
              <a:t> – 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skolēni/audzēkņi, skolotāji/pasniedzēji, administrācijas darbiniek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Projektu pieteicēji</a:t>
            </a:r>
            <a:r>
              <a:rPr b="0" lang="lv-LV" sz="2000" spc="-1" strike="noStrike">
                <a:solidFill>
                  <a:srgbClr val="454547"/>
                </a:solidFill>
                <a:latin typeface="Calibri"/>
                <a:ea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>
              <a:lnSpc>
                <a:spcPct val="92000"/>
              </a:lnSpc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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pirmsskolas iestā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>
              <a:lnSpc>
                <a:spcPct val="92000"/>
              </a:lnSpc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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sākumskola/pamatskola/vidussko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>
              <a:lnSpc>
                <a:spcPct val="92000"/>
              </a:lnSpc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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profesionālās izglītības iestā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 algn="just">
              <a:lnSpc>
                <a:spcPct val="92000"/>
              </a:lnSpc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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kultūras skolas (mūzikas un mākslas skolas), kas īsteno valsts apstiprinātu programm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 algn="just">
              <a:lnSpc>
                <a:spcPct val="92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! Cita veida iestādes, kas ir saistītas ar mērķa grupas apmācību, bet neīsteno valsts apstiprinātas mācību programmas, var piedalīties kā partne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 algn="just">
              <a:lnSpc>
                <a:spcPct val="90000"/>
              </a:lnSpc>
              <a:buClr>
                <a:srgbClr val="000000"/>
              </a:buClr>
              <a:buSzPct val="45000"/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2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!! Kā projekta </a:t>
            </a:r>
            <a:r>
              <a:rPr b="1" lang="lv-LV" sz="2000" spc="-1" strike="noStrike" u="sng">
                <a:solidFill>
                  <a:srgbClr val="002060"/>
                </a:solidFill>
                <a:uFillTx/>
                <a:latin typeface="Calibri"/>
                <a:ea typeface="Verdana"/>
              </a:rPr>
              <a:t>iesniedzēji/koordinatori </a:t>
            </a: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var būt tikai formālās izglītības iestādes (tas ir – bērnudārzi, skolas, profesionālās izglītības iestādes, mūzikas un mākslas skolas</a:t>
            </a: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, kas īsteno valsts apstiprinātas mācību programm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6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Jauniešu apakšprogrammas projektu vei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 txBox="1"/>
          <p:nvPr/>
        </p:nvSpPr>
        <p:spPr>
          <a:xfrm>
            <a:off x="1976040" y="1417320"/>
            <a:ext cx="7002360" cy="4708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1. Mobilitā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klašu apmaiņa (no 1 līdz 3 nedēļām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vidusskolu skolēnu apmaiņa un profesionālās izglītības skolu audzēkņu darba prakse (no 1 nedēļas līdz 1 gadam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skolotāju un pedagoģiskā personāla apmaiņa (no 1 nedēļas līdz 1 gadam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2. Projekti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Calibri"/>
              </a:rPr>
              <a:t>administratīvas tikšanās projekta aktivitāšu plānošanai un īstenošanai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Calibri"/>
              </a:rPr>
              <a:t>attīstības projekti un citas aktivitātes, kas vērstas uz pedagoģisko un didaktisko metožu attīstīšanu un pilnveidi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3. Sadarbības tīk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Calibri"/>
              </a:rPr>
              <a:t>administratīvās tikšanās, lai dibinātu un attīstītu skolu sadarbības tīklu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Calibri"/>
              </a:rPr>
              <a:t>sabiedrības informēšanas aktivitātes un projektu rezultātu izplatīšana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9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Jauniešu apakšprogrammas nosacīj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 txBox="1"/>
          <p:nvPr/>
        </p:nvSpPr>
        <p:spPr>
          <a:xfrm>
            <a:off x="1993680" y="1349280"/>
            <a:ext cx="6692760" cy="4840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9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Partneri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Mobilitātēm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 - </a:t>
            </a: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vismaz viens sadarbības partneris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 - izglītības iestāde no citas programmas dalībvalst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Projektiem un sadarbības tīkliem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 - </a:t>
            </a: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vismaz divi sadarbības partneri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 - izglītības iestādes no dažādām programmas dalībvalstīm.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9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Finansējumu piešķir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mobilitātēm 100%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 apmērā no mobilitātes izmaksām saskaņā ar programmas noteiktajām standarta (maksimālajām) likmēm ceļa un uzturēšanas izdevumie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Sadarbības projektiem - 100% 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no piešķirtā finansējuma saskaņā ar plānotajām vienības izmaksā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sadarbības tīkliem un projektiem kopš 2021. gada līdzfinansējuma apjoms </a:t>
            </a:r>
            <a:r>
              <a:rPr b="1" lang="lv-LV" sz="2000" spc="-1" strike="noStrike" u="sng">
                <a:solidFill>
                  <a:srgbClr val="002060"/>
                </a:solidFill>
                <a:uFillTx/>
                <a:latin typeface="Calibri"/>
                <a:ea typeface="Verdana"/>
              </a:rPr>
              <a:t>nav noteikts</a:t>
            </a: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2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3" name="Picture 2" descr=""/>
          <p:cNvPicPr/>
          <p:nvPr/>
        </p:nvPicPr>
        <p:blipFill>
          <a:blip r:embed="rId1"/>
          <a:stretch/>
        </p:blipFill>
        <p:spPr>
          <a:xfrm>
            <a:off x="4308480" y="1647720"/>
            <a:ext cx="4282920" cy="1386000"/>
          </a:xfrm>
          <a:prstGeom prst="rect">
            <a:avLst/>
          </a:prstGeom>
          <a:ln w="0">
            <a:noFill/>
          </a:ln>
        </p:spPr>
      </p:pic>
      <p:pic>
        <p:nvPicPr>
          <p:cNvPr id="854" name="Picture 3" descr=""/>
          <p:cNvPicPr/>
          <p:nvPr/>
        </p:nvPicPr>
        <p:blipFill>
          <a:blip r:embed="rId2"/>
          <a:stretch/>
        </p:blipFill>
        <p:spPr>
          <a:xfrm>
            <a:off x="4408560" y="3127320"/>
            <a:ext cx="4487760" cy="2274840"/>
          </a:xfrm>
          <a:prstGeom prst="rect">
            <a:avLst/>
          </a:prstGeom>
          <a:ln w="0">
            <a:noFill/>
          </a:ln>
        </p:spPr>
      </p:pic>
      <p:sp>
        <p:nvSpPr>
          <p:cNvPr id="855" name="Rectangle 2"/>
          <p:cNvSpPr/>
          <p:nvPr/>
        </p:nvSpPr>
        <p:spPr>
          <a:xfrm>
            <a:off x="4857840" y="5649840"/>
            <a:ext cx="377640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1f4e79"/>
                </a:solidFill>
                <a:latin typeface="Calibri"/>
              </a:rPr>
              <a:t>Sadarbības projektu finansējuma apraksts (</a:t>
            </a:r>
            <a:r>
              <a:rPr b="0" i="1" lang="lv-LV" sz="1800" spc="-1" strike="noStrike">
                <a:solidFill>
                  <a:srgbClr val="1f4e79"/>
                </a:solidFill>
                <a:latin typeface="Calibri"/>
              </a:rPr>
              <a:t>Rokasgrāmata 2021</a:t>
            </a:r>
            <a:r>
              <a:rPr b="0" lang="lv-LV" sz="1800" spc="-1" strike="noStrike">
                <a:solidFill>
                  <a:srgbClr val="1f4e79"/>
                </a:solidFill>
                <a:latin typeface="Calibri"/>
              </a:rPr>
              <a:t>., 24. – 25. lpp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2411280" y="423720"/>
            <a:ext cx="6485040" cy="944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</a:rPr>
              <a:t>Jauniešu Sadarbības projektu un tīklu finansēju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7" name="Picture 3" descr=""/>
          <p:cNvPicPr/>
          <p:nvPr/>
        </p:nvPicPr>
        <p:blipFill>
          <a:blip r:embed="rId3"/>
          <a:stretch/>
        </p:blipFill>
        <p:spPr>
          <a:xfrm>
            <a:off x="109440" y="1652760"/>
            <a:ext cx="3992760" cy="2474640"/>
          </a:xfrm>
          <a:prstGeom prst="rect">
            <a:avLst/>
          </a:prstGeom>
          <a:ln w="0">
            <a:noFill/>
          </a:ln>
        </p:spPr>
      </p:pic>
      <p:sp>
        <p:nvSpPr>
          <p:cNvPr id="858" name="Rectangle 2"/>
          <p:cNvSpPr/>
          <p:nvPr/>
        </p:nvSpPr>
        <p:spPr>
          <a:xfrm>
            <a:off x="358920" y="4363920"/>
            <a:ext cx="377964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1f4e79"/>
                </a:solidFill>
                <a:latin typeface="Calibri"/>
              </a:rPr>
              <a:t>Jauniešu apakšpr.  sadarbības projektu pieteikumu veidlapa, pieejama https://espresso.diku.n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2198520" y="380880"/>
            <a:ext cx="609624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Pieaugušo izglītības apakšprogramma</a:t>
            </a: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1728360" y="1671120"/>
            <a:ext cx="7110360" cy="4659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82000"/>
              </a:lnSpc>
              <a:spcBef>
                <a:spcPts val="5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3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Mērķa grupa </a:t>
            </a:r>
            <a:r>
              <a:rPr b="0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ir visi un jebkurš pieaugušo izglītībā iesaistītais (formālā, neformālā, vispārējā, profesionālā izglītība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2000"/>
              </a:lnSpc>
              <a:spcBef>
                <a:spcPts val="5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3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Projektu pieteicēji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2000"/>
              </a:lnSpc>
              <a:spcBef>
                <a:spcPts val="550"/>
              </a:spcBef>
              <a:buClr>
                <a:srgbClr val="002060"/>
              </a:buClr>
              <a:buSzPct val="45000"/>
              <a:buFont typeface="Wingdings" charset="2"/>
              <a:buChar char="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izglītības iestādes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, kas iesaistītas vai nodarbojas ar pieaugušo izglītības nodrošināšanu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2000"/>
              </a:lnSpc>
              <a:spcBef>
                <a:spcPts val="550"/>
              </a:spcBef>
              <a:buClr>
                <a:srgbClr val="002060"/>
              </a:buClr>
              <a:buSzPct val="45000"/>
              <a:buFont typeface="Wingdings" charset="2"/>
              <a:buChar char="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organizācijas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, kas nodarbojas ar pieaugušo izglītības īstenošanu (asociācijas, uzņēmumi, nevalstiskās organizācijas, un tml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2000"/>
              </a:lnSpc>
              <a:spcBef>
                <a:spcPts val="5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300" spc="-1" strike="noStrike">
                <a:solidFill>
                  <a:srgbClr val="ff0000"/>
                </a:solidFill>
                <a:latin typeface="Calibri"/>
                <a:ea typeface="Verdana"/>
              </a:rPr>
              <a:t>!!!</a:t>
            </a:r>
            <a:r>
              <a:rPr b="1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 Pieaugušo izglītības programmas projekta iesniedzējs var nebūt izglītības iestāde, bet projektā jābūt skaidri norādītam, kā projekta iesniedzējs saistīts ar pieaugušo izglītību, ko un kā izglītojamie iegūs no projekta īstenošana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1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ieaugušo apakšprogrammas projektu vei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 txBox="1"/>
          <p:nvPr/>
        </p:nvSpPr>
        <p:spPr>
          <a:xfrm>
            <a:off x="2080800" y="1611000"/>
            <a:ext cx="6605640" cy="4614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2060"/>
                </a:solidFill>
                <a:latin typeface="Calibri"/>
                <a:ea typeface="Verdana"/>
              </a:rPr>
              <a:t>1. Mobilitā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 algn="just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pieaugušo izglītotāju un cita pedagoģiskā personāla tālākizglītība (no 5 dienām līdz 1 gadam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 algn="just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pieaugušo audzēkņu apmaiņa (no 5 dienām līdz 1 gadam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2060"/>
                </a:solidFill>
                <a:latin typeface="Calibri"/>
                <a:ea typeface="Verdana"/>
              </a:rPr>
              <a:t>2. Sadarbības projek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 algn="just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Calibri"/>
              </a:rPr>
              <a:t>tematisko tīklu 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Calibri"/>
              </a:rPr>
              <a:t>projekti, kas paredz administratīvas tikšanās, lai dibinātu un attīstītu sadarbības tīklu pieaugušo izglītības sfērā, sabiedrības informēšanas aktivitātes, projekta rezultātu izplatīšan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 algn="just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Calibri"/>
              </a:rPr>
              <a:t>attīstības projekti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Calibri"/>
              </a:rPr>
              <a:t>, kas paredz jaunu moduli, kursu, mācību metožu izveid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 algn="just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Calibri"/>
              </a:rPr>
              <a:t>plānošanas projekti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Calibri"/>
              </a:rPr>
              <a:t>, kas paredz iestrādes jaunu projektu izstrāde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4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ieaugušo izglītības projektu nosacīj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2211120" y="1531800"/>
            <a:ext cx="6475320" cy="4834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Partneri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24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100" spc="-1" strike="noStrike">
                <a:solidFill>
                  <a:srgbClr val="002060"/>
                </a:solidFill>
                <a:latin typeface="Calibri"/>
                <a:ea typeface="Verdana"/>
              </a:rPr>
              <a:t>Mobilitātēm</a:t>
            </a:r>
            <a:r>
              <a:rPr b="0" lang="lv-LV" sz="2100" spc="-1" strike="noStrike">
                <a:solidFill>
                  <a:srgbClr val="002060"/>
                </a:solidFill>
                <a:latin typeface="Calibri"/>
                <a:ea typeface="Verdana"/>
              </a:rPr>
              <a:t> - </a:t>
            </a:r>
            <a:r>
              <a:rPr b="1" lang="lv-LV" sz="2100" spc="-1" strike="noStrike">
                <a:solidFill>
                  <a:srgbClr val="002060"/>
                </a:solidFill>
                <a:latin typeface="Calibri"/>
                <a:ea typeface="Verdana"/>
              </a:rPr>
              <a:t>vismaz viens sadarbības partneris</a:t>
            </a:r>
            <a:r>
              <a:rPr b="0" lang="lv-LV" sz="2100" spc="-1" strike="noStrike">
                <a:solidFill>
                  <a:srgbClr val="002060"/>
                </a:solidFill>
                <a:latin typeface="Calibri"/>
                <a:ea typeface="Verdana"/>
              </a:rPr>
              <a:t> - organizācija no citas programmas dalībvalsts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24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100" spc="-1" strike="noStrike">
                <a:solidFill>
                  <a:srgbClr val="002060"/>
                </a:solidFill>
                <a:latin typeface="Calibri"/>
                <a:ea typeface="Verdana"/>
              </a:rPr>
              <a:t>Sadarbības projektiem</a:t>
            </a:r>
            <a:r>
              <a:rPr b="0" lang="lv-LV" sz="2100" spc="-1" strike="noStrike">
                <a:solidFill>
                  <a:srgbClr val="002060"/>
                </a:solidFill>
                <a:latin typeface="Calibri"/>
                <a:ea typeface="Verdana"/>
              </a:rPr>
              <a:t> - </a:t>
            </a:r>
            <a:r>
              <a:rPr b="1" lang="lv-LV" sz="2100" spc="-1" strike="noStrike">
                <a:solidFill>
                  <a:srgbClr val="002060"/>
                </a:solidFill>
                <a:latin typeface="Calibri"/>
                <a:ea typeface="Verdana"/>
              </a:rPr>
              <a:t>vismaz divi sadarbības partneri</a:t>
            </a:r>
            <a:r>
              <a:rPr b="0" lang="lv-LV" sz="2100" spc="-1" strike="noStrike">
                <a:solidFill>
                  <a:srgbClr val="002060"/>
                </a:solidFill>
                <a:latin typeface="Calibri"/>
                <a:ea typeface="Verdana"/>
              </a:rPr>
              <a:t> - organizācijas no dažādām programmas dalībvalstīm.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Finansējumu piešķi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24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100" spc="-1" strike="noStrike">
                <a:solidFill>
                  <a:srgbClr val="002060"/>
                </a:solidFill>
                <a:latin typeface="Calibri"/>
                <a:ea typeface="Verdana"/>
              </a:rPr>
              <a:t>Mobilitātēm 100%</a:t>
            </a:r>
            <a:r>
              <a:rPr b="0" lang="lv-LV" sz="2100" spc="-1" strike="noStrike">
                <a:solidFill>
                  <a:srgbClr val="002060"/>
                </a:solidFill>
                <a:latin typeface="Calibri"/>
                <a:ea typeface="Verdana"/>
              </a:rPr>
              <a:t> apmērā no mobilitātes izmaksām saskaņā ar programmas noteiktajām standarta (maksimālajām) likmēm ceļa un uzturēšanas izdevumiem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24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100" spc="-1" strike="noStrike">
                <a:solidFill>
                  <a:srgbClr val="002060"/>
                </a:solidFill>
                <a:latin typeface="Calibri"/>
                <a:ea typeface="Verdana"/>
              </a:rPr>
              <a:t>Sadarbības projektiem 100%</a:t>
            </a:r>
            <a:r>
              <a:rPr b="0" lang="lv-LV" sz="2100" spc="-1" strike="noStrike">
                <a:solidFill>
                  <a:srgbClr val="002060"/>
                </a:solidFill>
                <a:latin typeface="Calibri"/>
                <a:ea typeface="Verdana"/>
              </a:rPr>
              <a:t> no piešķirtā finansējuma saskaņā ar plānotajām vienības izmaksām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7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 txBox="1"/>
          <p:nvPr/>
        </p:nvSpPr>
        <p:spPr>
          <a:xfrm>
            <a:off x="966600" y="1547640"/>
            <a:ext cx="8002440" cy="32623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lvl="1" marL="270000" algn="just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254061"/>
                </a:solidFill>
                <a:latin typeface="Calibri"/>
              </a:rPr>
              <a:t>Vienības izmaksa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270000" algn="just">
              <a:lnSpc>
                <a:spcPct val="100000"/>
              </a:lnSpc>
              <a:spcBef>
                <a:spcPts val="601"/>
              </a:spcBef>
              <a:buClr>
                <a:srgbClr val="254061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254061"/>
                </a:solidFill>
                <a:latin typeface="Calibri"/>
              </a:rPr>
              <a:t>Projekta vadības, īstenošanas un publicitātes izmaksas </a:t>
            </a:r>
            <a:r>
              <a:rPr b="0" lang="lv-LV" sz="2200" spc="-1" strike="noStrike">
                <a:solidFill>
                  <a:srgbClr val="254061"/>
                </a:solidFill>
                <a:latin typeface="Calibri"/>
              </a:rPr>
              <a:t>– fiksēta summa projekta koordinatoram </a:t>
            </a:r>
            <a:r>
              <a:rPr b="1" lang="lv-LV" sz="2200" spc="-1" strike="noStrike">
                <a:solidFill>
                  <a:srgbClr val="254061"/>
                </a:solidFill>
                <a:latin typeface="Calibri"/>
              </a:rPr>
              <a:t>3000 EUR</a:t>
            </a:r>
            <a:r>
              <a:rPr b="0" lang="lv-LV" sz="2200" spc="-1" strike="noStrike">
                <a:solidFill>
                  <a:srgbClr val="254061"/>
                </a:solidFill>
                <a:latin typeface="Calibri"/>
              </a:rPr>
              <a:t>, projekta partneriem – </a:t>
            </a:r>
            <a:r>
              <a:rPr b="1" lang="lv-LV" sz="2200" spc="-1" strike="noStrike">
                <a:solidFill>
                  <a:srgbClr val="254061"/>
                </a:solidFill>
                <a:latin typeface="Calibri"/>
              </a:rPr>
              <a:t>1000 EUR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270000" algn="just">
              <a:lnSpc>
                <a:spcPct val="100000"/>
              </a:lnSpc>
              <a:spcBef>
                <a:spcPts val="601"/>
              </a:spcBef>
              <a:buClr>
                <a:srgbClr val="254061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254061"/>
                </a:solidFill>
                <a:latin typeface="Calibri"/>
              </a:rPr>
              <a:t>Projekta (starptautiskās) tikšanās </a:t>
            </a:r>
            <a:r>
              <a:rPr b="0" lang="lv-LV" sz="2200" spc="-1" strike="noStrike">
                <a:solidFill>
                  <a:srgbClr val="254061"/>
                </a:solidFill>
                <a:latin typeface="Calibri"/>
              </a:rPr>
              <a:t>– ceļa un uzturēšanās izdevumi projektā iesaistīto partneru dalībai plānošanas, projekta koordinēšanas sanāksmēm, semināriem, mācību kursiem saskaņā ar noteiktajām likmēm ceļa un uzturēšanās izdevumiem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3"/>
          <p:cNvSpPr/>
          <p:nvPr/>
        </p:nvSpPr>
        <p:spPr>
          <a:xfrm>
            <a:off x="1770120" y="511200"/>
            <a:ext cx="6972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</a:rPr>
              <a:t> 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</a:rPr>
              <a:t>Pieaugušo izglītības sadarbības projektu finansēju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1" name="Picture 4" descr=""/>
          <p:cNvPicPr/>
          <p:nvPr/>
        </p:nvPicPr>
        <p:blipFill>
          <a:blip r:embed="rId1"/>
          <a:srcRect l="3218" t="7703" r="1798" b="5770"/>
          <a:stretch/>
        </p:blipFill>
        <p:spPr>
          <a:xfrm>
            <a:off x="2752560" y="4700520"/>
            <a:ext cx="5642280" cy="1819440"/>
          </a:xfrm>
          <a:prstGeom prst="rect">
            <a:avLst/>
          </a:prstGeom>
          <a:ln w="0">
            <a:noFill/>
          </a:ln>
        </p:spPr>
      </p:pic>
      <p:sp>
        <p:nvSpPr>
          <p:cNvPr id="872" name="Rectangle 2"/>
          <p:cNvSpPr/>
          <p:nvPr/>
        </p:nvSpPr>
        <p:spPr>
          <a:xfrm>
            <a:off x="201600" y="5310360"/>
            <a:ext cx="238608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1f4e79"/>
                </a:solidFill>
                <a:latin typeface="Calibri"/>
              </a:rPr>
              <a:t>Sadarbības projektu finansējums  (</a:t>
            </a:r>
            <a:r>
              <a:rPr b="0" i="1" lang="lv-LV" sz="1800" spc="-1" strike="noStrike">
                <a:solidFill>
                  <a:srgbClr val="1f4e79"/>
                </a:solidFill>
                <a:latin typeface="Calibri"/>
              </a:rPr>
              <a:t>Rokasgrāmata 2021</a:t>
            </a:r>
            <a:r>
              <a:rPr b="0" lang="lv-LV" sz="1800" spc="-1" strike="noStrike">
                <a:solidFill>
                  <a:srgbClr val="1f4e79"/>
                </a:solidFill>
                <a:latin typeface="Calibri"/>
              </a:rPr>
              <a:t>., 51. lpp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966600" y="1593360"/>
            <a:ext cx="8002440" cy="2311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lvl="1" marL="270000" algn="just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254061"/>
                </a:solidFill>
                <a:latin typeface="Calibri"/>
              </a:rPr>
              <a:t>Vienības izmaksa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270000" algn="just">
              <a:lnSpc>
                <a:spcPct val="100000"/>
              </a:lnSpc>
              <a:spcBef>
                <a:spcPts val="601"/>
              </a:spcBef>
              <a:buClr>
                <a:srgbClr val="254061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254061"/>
                </a:solidFill>
                <a:latin typeface="Calibri"/>
              </a:rPr>
              <a:t>Izstrādes darbs </a:t>
            </a:r>
            <a:r>
              <a:rPr b="0" lang="lv-LV" sz="2200" spc="-1" strike="noStrike">
                <a:solidFill>
                  <a:srgbClr val="254061"/>
                </a:solidFill>
                <a:latin typeface="Calibri"/>
              </a:rPr>
              <a:t>– darba apmaksai, kas ieguldītas projekta ietvaros paredzētā produkta radīšanai (izglītojošie materiāli, mācību programmas, metodes, u.c.), saskaņā ar noteiktajām likmēm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Rectangle 3"/>
          <p:cNvSpPr/>
          <p:nvPr/>
        </p:nvSpPr>
        <p:spPr>
          <a:xfrm>
            <a:off x="1770120" y="511200"/>
            <a:ext cx="6972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</a:rPr>
              <a:t>  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</a:rPr>
              <a:t>Pieaugušo izglītības sadarbības projektu finansēju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6" name="Picture 4" descr=""/>
          <p:cNvPicPr/>
          <p:nvPr/>
        </p:nvPicPr>
        <p:blipFill>
          <a:blip r:embed="rId1"/>
          <a:stretch/>
        </p:blipFill>
        <p:spPr>
          <a:xfrm>
            <a:off x="2614680" y="3659040"/>
            <a:ext cx="6218280" cy="2330640"/>
          </a:xfrm>
          <a:prstGeom prst="rect">
            <a:avLst/>
          </a:prstGeom>
          <a:ln w="0">
            <a:noFill/>
          </a:ln>
        </p:spPr>
      </p:pic>
      <p:sp>
        <p:nvSpPr>
          <p:cNvPr id="877" name="Rectangle 2"/>
          <p:cNvSpPr/>
          <p:nvPr/>
        </p:nvSpPr>
        <p:spPr>
          <a:xfrm>
            <a:off x="291960" y="4402080"/>
            <a:ext cx="208620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1f4e79"/>
                </a:solidFill>
                <a:latin typeface="Calibri"/>
              </a:rPr>
              <a:t>Sadarbības projektu finansējums  (</a:t>
            </a:r>
            <a:r>
              <a:rPr b="0" i="1" lang="lv-LV" sz="1800" spc="-1" strike="noStrike">
                <a:solidFill>
                  <a:srgbClr val="1f4e79"/>
                </a:solidFill>
                <a:latin typeface="Calibri"/>
              </a:rPr>
              <a:t>Rokasgrāmata 2021</a:t>
            </a:r>
            <a:r>
              <a:rPr b="0" lang="lv-LV" sz="1800" spc="-1" strike="noStrike">
                <a:solidFill>
                  <a:srgbClr val="1f4e79"/>
                </a:solidFill>
                <a:latin typeface="Calibri"/>
              </a:rPr>
              <a:t>., 51. lpp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programmas mērķ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2055600" y="1236600"/>
            <a:ext cx="6630840" cy="4889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lvl="1" marL="762120" indent="-292320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2060"/>
                </a:solidFill>
                <a:latin typeface="Calibri"/>
                <a:ea typeface="Times New Roman"/>
              </a:rPr>
              <a:t>stiprināt un attīstīt Ziemeļvalstu un Baltijas valstu izglītības institūciju </a:t>
            </a:r>
            <a:r>
              <a:rPr b="1" lang="lv-LV" sz="2500" spc="-1" strike="noStrike">
                <a:solidFill>
                  <a:srgbClr val="0b7d91"/>
                </a:solidFill>
                <a:latin typeface="Calibri"/>
                <a:ea typeface="Times New Roman"/>
              </a:rPr>
              <a:t>sadarbību </a:t>
            </a:r>
            <a:r>
              <a:rPr b="0" lang="lv-LV" sz="2500" spc="-1" strike="noStrike">
                <a:solidFill>
                  <a:srgbClr val="002060"/>
                </a:solidFill>
                <a:latin typeface="Calibri"/>
                <a:ea typeface="Times New Roman"/>
              </a:rPr>
              <a:t>izglītības jomā, veicinot zināšanu ieguvi, apmaiņu un sadarbības tīklu veidošanu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2060"/>
                </a:solidFill>
                <a:latin typeface="Calibri"/>
                <a:ea typeface="Times New Roman"/>
              </a:rPr>
              <a:t>uzlabot un ieviest </a:t>
            </a:r>
            <a:r>
              <a:rPr b="1" lang="lv-LV" sz="2500" spc="-1" strike="noStrike">
                <a:solidFill>
                  <a:srgbClr val="0b7d91"/>
                </a:solidFill>
                <a:latin typeface="Calibri"/>
                <a:ea typeface="Times New Roman"/>
              </a:rPr>
              <a:t>jauninājumus</a:t>
            </a: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lv-LV" sz="2500" spc="-1" strike="noStrike">
                <a:solidFill>
                  <a:srgbClr val="002060"/>
                </a:solidFill>
                <a:latin typeface="Calibri"/>
                <a:ea typeface="Times New Roman"/>
              </a:rPr>
              <a:t>Ziemeļvalstu un Baltijas valstu izglītības sistēmās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2060"/>
                </a:solidFill>
                <a:latin typeface="Calibri"/>
                <a:ea typeface="Times New Roman"/>
              </a:rPr>
              <a:t>sniegt ieguldījumu kvalitatīvā un inovatīvā </a:t>
            </a:r>
            <a:r>
              <a:rPr b="1" lang="lv-LV" sz="2500" spc="-1" strike="noStrike">
                <a:solidFill>
                  <a:srgbClr val="0b7d91"/>
                </a:solidFill>
                <a:latin typeface="Calibri"/>
                <a:ea typeface="Times New Roman"/>
              </a:rPr>
              <a:t>mūžizglītības</a:t>
            </a: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lv-LV" sz="2500" spc="-1" strike="noStrike">
                <a:solidFill>
                  <a:srgbClr val="002060"/>
                </a:solidFill>
                <a:latin typeface="Calibri"/>
                <a:ea typeface="Times New Roman"/>
              </a:rPr>
              <a:t>attīstībā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2060"/>
                </a:solidFill>
                <a:latin typeface="Calibri"/>
                <a:ea typeface="Times New Roman"/>
              </a:rPr>
              <a:t>veicināt Ziemeļvalstu kultūru un valodu apguvi, kā arī savstarpējo Ziemeļvalstu un Baltijas valstu valodu un kultūru izpratni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5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5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 Ziemeļvalstu valodu apakšprogramma</a:t>
            </a:r>
            <a:br>
              <a:rPr sz="2500"/>
            </a:b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 txBox="1"/>
          <p:nvPr/>
        </p:nvSpPr>
        <p:spPr>
          <a:xfrm>
            <a:off x="2028600" y="1331640"/>
            <a:ext cx="7027560" cy="47941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254061"/>
                </a:solidFill>
                <a:latin typeface="Calibri"/>
                <a:ea typeface="Verdana"/>
              </a:rPr>
              <a:t>Programmas mērķgru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Verdana"/>
              </a:rPr>
              <a:t>visi ieinteresētie </a:t>
            </a:r>
            <a:r>
              <a:rPr b="0" lang="lv-LV" sz="1800" spc="-1" strike="noStrike" u="sng">
                <a:solidFill>
                  <a:srgbClr val="002060"/>
                </a:solidFill>
                <a:uFillTx/>
                <a:latin typeface="Calibri"/>
                <a:ea typeface="Verdana"/>
              </a:rPr>
              <a:t>Ziemeļvalstu valodu apguvē, mācīšanā, izplatīšan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Verdana"/>
              </a:rPr>
              <a:t>      </a:t>
            </a:r>
            <a:r>
              <a:rPr b="0" lang="lv-LV" sz="1800" spc="-1" strike="noStrike" u="sng">
                <a:solidFill>
                  <a:srgbClr val="002060"/>
                </a:solidFill>
                <a:uFillTx/>
                <a:latin typeface="Calibri"/>
                <a:ea typeface="Verdana"/>
              </a:rPr>
              <a:t> </a:t>
            </a:r>
            <a:r>
              <a:rPr b="0" lang="lv-LV" sz="1800" spc="-1" strike="noStrike" u="sng">
                <a:solidFill>
                  <a:srgbClr val="002060"/>
                </a:solidFill>
                <a:uFillTx/>
                <a:latin typeface="Calibri"/>
                <a:ea typeface="Verdana"/>
              </a:rPr>
              <a:t>Ziemeļvalstu valodas </a:t>
            </a: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Verdana"/>
              </a:rPr>
              <a:t>– dāņu, somu, norvēģu, zviedru, sāmu, islandiešu, fēriešu, grenlandiešu valoda, zīmju valoda (ziemeļvalstu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254061"/>
                </a:solidFill>
                <a:latin typeface="Calibri"/>
                <a:ea typeface="Verdana"/>
              </a:rPr>
              <a:t>Atbalstāmās aktivitātes (līdz 3 gadiem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Verdana"/>
              </a:rPr>
              <a:t>mācību metožu un materiālu veidošana Ziemeļvalstu valodu apguvei, mācīšana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Verdana"/>
              </a:rPr>
              <a:t>sadarbība skolu mācību programmu attīstībai, iekļaujot tajās Ziemeļvalstu  valodu apguv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Verdana"/>
              </a:rPr>
              <a:t>projekti, kas vērsti uz sabiedrības informēšanu par projekta rezultātie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Verdana"/>
              </a:rPr>
              <a:t>konferences, seminār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Verdana"/>
              </a:rPr>
              <a:t>projekti, kas vērsti uz terminoloģijas izstrādi un vārdnīcu sagatavošanu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Verdana"/>
              </a:rPr>
              <a:t>publikācija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Verdana"/>
              </a:rPr>
              <a:t>attīstības projekti un citas aktivitātes, kas vērstas uz pedagoģisko un didaktisko metožu attīstīšanu un pilnveid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0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2214720" y="380880"/>
            <a:ext cx="64720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Ziemeļvalstu valodu projektu dalībnieki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 txBox="1"/>
          <p:nvPr/>
        </p:nvSpPr>
        <p:spPr>
          <a:xfrm>
            <a:off x="2490480" y="1626840"/>
            <a:ext cx="6195960" cy="4708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Projekta iesniedzējs un sadarbības partneri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7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Times New Roman"/>
              </a:rPr>
              <a:t>pirmsskolas izglītības iestādes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7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Times New Roman"/>
              </a:rPr>
              <a:t>pamatskolas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7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Times New Roman"/>
              </a:rPr>
              <a:t>vidusskola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7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Times New Roman"/>
              </a:rPr>
              <a:t>profesionālās izglītības iestād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7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Times New Roman"/>
              </a:rPr>
              <a:t>augstskolas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7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Times New Roman"/>
              </a:rPr>
              <a:t>zinātniskās institūcija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7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Times New Roman"/>
              </a:rPr>
              <a:t>nevalstiskās organizācija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7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Times New Roman"/>
              </a:rPr>
              <a:t>privātuzņēmumi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! </a:t>
            </a: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Projekta iesniedzējs + </a:t>
            </a:r>
            <a:r>
              <a:rPr b="1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1 sadarbības partneris </a:t>
            </a: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no divām dažādām programmas dalībvalstīm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! Nordplus programmas finansējums -  līdz 75%</a:t>
            </a: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 no aktivitāšu izmaksām, 25% - projekta īstenotāju līdzfinansējum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! </a:t>
            </a: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Pieteikumu var iesniegt arī </a:t>
            </a:r>
            <a:r>
              <a:rPr b="1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angļu valodā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3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2241360" y="365040"/>
            <a:ext cx="6273720" cy="689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</a:rPr>
              <a:t>Ziemeļvalstu valodu projektu finansējums (I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 txBox="1"/>
          <p:nvPr/>
        </p:nvSpPr>
        <p:spPr>
          <a:xfrm>
            <a:off x="1855800" y="1279080"/>
            <a:ext cx="6905520" cy="50259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254061"/>
                </a:solidFill>
                <a:latin typeface="Calibri"/>
              </a:rPr>
              <a:t>Tiešie izdevum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499"/>
              </a:spcBef>
              <a:buClr>
                <a:srgbClr val="254061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254061"/>
                </a:solidFill>
                <a:latin typeface="Calibri"/>
              </a:rPr>
              <a:t>ceļa un uzturēšanās izdevumi, telpu noma semināriem, materiālu drukāšana semināriem, samaksa vieslektoriem, specifisku darbu izpildītājie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499"/>
              </a:spcBef>
              <a:buClr>
                <a:srgbClr val="254061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254061"/>
                </a:solidFill>
                <a:latin typeface="Calibri"/>
              </a:rPr>
              <a:t>administratīvās izmaksas </a:t>
            </a:r>
            <a:r>
              <a:rPr b="1" lang="lv-LV" sz="2000" spc="-1" strike="noStrike">
                <a:solidFill>
                  <a:srgbClr val="254061"/>
                </a:solidFill>
                <a:latin typeface="Calibri"/>
              </a:rPr>
              <a:t>līdz 5% </a:t>
            </a:r>
            <a:r>
              <a:rPr b="0" lang="lv-LV" sz="2000" spc="-1" strike="noStrike">
                <a:solidFill>
                  <a:srgbClr val="254061"/>
                </a:solidFill>
                <a:latin typeface="Calibri"/>
              </a:rPr>
              <a:t>no </a:t>
            </a:r>
            <a:r>
              <a:rPr b="0" i="1" lang="lv-LV" sz="2000" spc="-1" strike="noStrike">
                <a:solidFill>
                  <a:srgbClr val="254061"/>
                </a:solidFill>
                <a:latin typeface="Calibri"/>
              </a:rPr>
              <a:t>Nordplus</a:t>
            </a:r>
            <a:r>
              <a:rPr b="0" lang="lv-LV" sz="2000" spc="-1" strike="noStrike">
                <a:solidFill>
                  <a:srgbClr val="254061"/>
                </a:solidFill>
                <a:latin typeface="Calibri"/>
              </a:rPr>
              <a:t> finansējuma projekta koordinēšanas nodrošināšanai (pamatojošie dokumenti nav nepieciešami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499"/>
              </a:spcBef>
              <a:buClr>
                <a:srgbClr val="254061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254061"/>
                </a:solidFill>
                <a:latin typeface="Calibri"/>
              </a:rPr>
              <a:t>Projektā iesaistītajiem darbiniekiem - samaksa par darbu, kas ir ieguldīts projekta izglītības rezultātu/produktu radīšanā </a:t>
            </a:r>
            <a:r>
              <a:rPr b="0" lang="lv-LV" sz="2000" spc="-1" strike="noStrike">
                <a:solidFill>
                  <a:srgbClr val="254061"/>
                </a:solidFill>
                <a:latin typeface="Calibri"/>
              </a:rPr>
              <a:t>(mācību programma, mācību līdzekļi, mācību metodes utt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6" name="Picture 2" descr=""/>
          <p:cNvPicPr/>
          <p:nvPr/>
        </p:nvPicPr>
        <p:blipFill>
          <a:blip r:embed="rId1"/>
          <a:stretch/>
        </p:blipFill>
        <p:spPr>
          <a:xfrm>
            <a:off x="1490760" y="1712880"/>
            <a:ext cx="7653240" cy="3576600"/>
          </a:xfrm>
          <a:prstGeom prst="rect">
            <a:avLst/>
          </a:prstGeom>
          <a:ln w="0">
            <a:noFill/>
          </a:ln>
        </p:spPr>
      </p:pic>
      <p:sp>
        <p:nvSpPr>
          <p:cNvPr id="887" name="Rectangle 2"/>
          <p:cNvSpPr/>
          <p:nvPr/>
        </p:nvSpPr>
        <p:spPr>
          <a:xfrm>
            <a:off x="136440" y="2739960"/>
            <a:ext cx="144936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1f4e79"/>
                </a:solidFill>
                <a:latin typeface="Calibri"/>
              </a:rPr>
              <a:t> </a:t>
            </a:r>
            <a:r>
              <a:rPr b="0" i="1" lang="lv-LV" sz="1800" spc="-1" strike="noStrike">
                <a:solidFill>
                  <a:srgbClr val="1f4e79"/>
                </a:solidFill>
                <a:latin typeface="Calibri"/>
              </a:rPr>
              <a:t>Budžeta sadaļa projekta pieteikuma veidlapā, Espresso sistēma https://espresso.siu.no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2241360" y="365040"/>
            <a:ext cx="6273720" cy="689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</a:rPr>
              <a:t>Ziemeļvalstu valodu projektu finansējums (II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9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590560" y="380520"/>
            <a:ext cx="6095880" cy="621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Informācijas avoti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 txBox="1"/>
          <p:nvPr/>
        </p:nvSpPr>
        <p:spPr>
          <a:xfrm>
            <a:off x="1782720" y="861840"/>
            <a:ext cx="7361280" cy="5477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Programmas oficiālā mājas lapa,  – www.nordplusonline.org, projektu piemēri - https://www.nordplusonline.org/projects/project-stories/ 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i="1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Tiešsaistes sistēma </a:t>
            </a:r>
            <a:r>
              <a:rPr b="0" i="1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Espresso</a:t>
            </a: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 (pieteikumu aizpildīšana un iesniegšana) – http://espresso.siu.no/espress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VIAA mājas lapa – sadaļa “Nordplus” -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Partneru meklēšan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Nordplus partneru meklēšanas datu bāze https://www.nordplusonline.org/projects/partner-search/#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Skolu izglītības sektorā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eTwinning:</a:t>
            </a: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https://www.etwinning.net/en/pub/index.htm 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Schoolgateway:</a:t>
            </a: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https://login.schoolgateway.com/0/auth/log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Pieaugušo izglītības sektorā: </a:t>
            </a:r>
            <a:r>
              <a:rPr b="1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EPALE: </a:t>
            </a: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https://ec.europa.eu/epale/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	</a:t>
            </a: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	</a:t>
            </a: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	</a:t>
            </a: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	</a:t>
            </a: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http://www.muzizglitiba.lv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"/>
          <p:cNvSpPr txBox="1"/>
          <p:nvPr/>
        </p:nvSpPr>
        <p:spPr>
          <a:xfrm>
            <a:off x="1393560" y="1166760"/>
            <a:ext cx="7132680" cy="4759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60360" indent="-36036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3200" spc="-1" strike="noStrike">
                <a:solidFill>
                  <a:srgbClr val="0b7d91"/>
                </a:solidFill>
                <a:latin typeface="Calibri"/>
                <a:ea typeface="Verdana"/>
              </a:rPr>
              <a:t>Kontaktinformā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Linards Deidu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i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Nordplus</a:t>
            </a: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 program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tālr. 67830837, 29554403 (GSM, WhatsAp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Linards.deidulis@viaa.gov.l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Skype: linards.deidu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Espresso sistēmas administrators Norvēģijā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Frank Krohn: frank.krohn@hkdir.n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3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2386080" y="380880"/>
            <a:ext cx="630072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GB" sz="2900" spc="-1" strike="noStrike">
                <a:solidFill>
                  <a:srgbClr val="0b7d91"/>
                </a:solidFill>
                <a:latin typeface="Verdana"/>
                <a:ea typeface="Verdana"/>
              </a:rPr>
              <a:t>Nordplus </a:t>
            </a:r>
            <a:r>
              <a:rPr b="1" lang="lv-LV" sz="2900" spc="-1" strike="noStrike">
                <a:solidFill>
                  <a:srgbClr val="0b7d91"/>
                </a:solidFill>
                <a:latin typeface="Verdana"/>
                <a:ea typeface="Verdana"/>
              </a:rPr>
              <a:t>dalībvalstis un aktivitāt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4138560" y="1417320"/>
            <a:ext cx="4548240" cy="4708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Verdana"/>
                <a:ea typeface="Verdana"/>
              </a:rPr>
              <a:t>Dalībvalst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Ziemeļvalstis un Baltijas valstis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: Dānija (arī Grenlande un Fēru salas), Somija, (arī Ālandu salas), Islande, Norvēģija, Zviedrija, Latvija, Lietuva un Igaunij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Verdana"/>
                <a:ea typeface="Verdana"/>
              </a:rPr>
              <a:t>Atbalstu piešķir šādiem projektu veidie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Verdana"/>
                <a:ea typeface="Verdana"/>
              </a:rPr>
              <a:t>Mobilitātē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Verdana"/>
                <a:ea typeface="Verdana"/>
              </a:rPr>
              <a:t>Projekti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Verdana"/>
                <a:ea typeface="Verdana"/>
              </a:rPr>
              <a:t>Sadarbības tīkli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i="1" lang="lv-LV" sz="2000" spc="-1" strike="noStrike">
                <a:solidFill>
                  <a:srgbClr val="002060"/>
                </a:solidFill>
                <a:latin typeface="Verdana"/>
                <a:ea typeface="Verdana"/>
              </a:rPr>
              <a:t>  </a:t>
            </a:r>
            <a:r>
              <a:rPr b="1" i="1" lang="lv-LV" sz="2000" spc="-1" strike="noStrike">
                <a:solidFill>
                  <a:srgbClr val="002060"/>
                </a:solidFill>
                <a:latin typeface="Verdana"/>
                <a:ea typeface="Verdana"/>
              </a:rPr>
              <a:t>Sagatavošanas vizītes </a:t>
            </a:r>
            <a:r>
              <a:rPr b="0" i="1" lang="lv-LV" sz="2000" spc="-1" strike="noStrike">
                <a:solidFill>
                  <a:srgbClr val="002060"/>
                </a:solidFill>
                <a:latin typeface="Verdana"/>
                <a:ea typeface="Verdana"/>
              </a:rPr>
              <a:t>ir viens no mobilitātes projektu veidiem</a:t>
            </a:r>
            <a:r>
              <a:rPr b="1" i="1" lang="lv-LV" sz="2000" spc="-1" strike="noStrike">
                <a:solidFill>
                  <a:srgbClr val="002060"/>
                </a:solidFill>
                <a:latin typeface="Verdana"/>
                <a:ea typeface="Verdan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8" name="Picture 3" descr=""/>
          <p:cNvPicPr/>
          <p:nvPr/>
        </p:nvPicPr>
        <p:blipFill>
          <a:blip r:embed="rId1"/>
          <a:stretch/>
        </p:blipFill>
        <p:spPr>
          <a:xfrm>
            <a:off x="85680" y="5925960"/>
            <a:ext cx="2413080" cy="81936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2" descr=""/>
          <p:cNvPicPr/>
          <p:nvPr/>
        </p:nvPicPr>
        <p:blipFill>
          <a:blip r:embed="rId2"/>
          <a:stretch/>
        </p:blipFill>
        <p:spPr>
          <a:xfrm>
            <a:off x="264960" y="1916280"/>
            <a:ext cx="350388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sagatavošanas vizītes</a:t>
            </a: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2012760" y="1252440"/>
            <a:ext cx="6870600" cy="2176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2060"/>
                </a:solidFill>
                <a:latin typeface="Calibri"/>
                <a:ea typeface="Verdana"/>
              </a:rPr>
              <a:t>Sniedz iespēju </a:t>
            </a:r>
            <a:r>
              <a:rPr b="1" lang="lv-LV" sz="3000" spc="-1" strike="noStrike">
                <a:solidFill>
                  <a:srgbClr val="002060"/>
                </a:solidFill>
                <a:latin typeface="Calibri"/>
                <a:ea typeface="Verdana"/>
              </a:rPr>
              <a:t>tikties potenciālā projekta partneriem pieteikumu sagatavošanai Jauniešu, Pieaugušo izglītības un Ziemeļvalstu valodu </a:t>
            </a:r>
            <a:r>
              <a:rPr b="0" lang="lv-LV" sz="3000" spc="-1" strike="noStrike">
                <a:solidFill>
                  <a:srgbClr val="002060"/>
                </a:solidFill>
                <a:latin typeface="Calibri"/>
                <a:ea typeface="Verdana"/>
              </a:rPr>
              <a:t>apakšprogrammās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2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pic>
        <p:nvPicPr>
          <p:cNvPr id="793" name="Picture 2" descr=""/>
          <p:cNvPicPr/>
          <p:nvPr/>
        </p:nvPicPr>
        <p:blipFill>
          <a:blip r:embed="rId2"/>
          <a:stretch/>
        </p:blipFill>
        <p:spPr>
          <a:xfrm>
            <a:off x="0" y="4168800"/>
            <a:ext cx="9212400" cy="1757160"/>
          </a:xfrm>
          <a:prstGeom prst="rect">
            <a:avLst/>
          </a:prstGeom>
          <a:ln w="0">
            <a:noFill/>
          </a:ln>
        </p:spPr>
      </p:pic>
      <p:pic>
        <p:nvPicPr>
          <p:cNvPr id="794" name="Picture 4" descr=""/>
          <p:cNvPicPr/>
          <p:nvPr/>
        </p:nvPicPr>
        <p:blipFill>
          <a:blip r:embed="rId3"/>
          <a:stretch/>
        </p:blipFill>
        <p:spPr>
          <a:xfrm>
            <a:off x="77760" y="2076480"/>
            <a:ext cx="188136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603160" y="45864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2018-2022</a:t>
            </a: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1828440" y="992160"/>
            <a:ext cx="7094520" cy="51609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 fontScale="96000"/>
          </a:bodyPr>
          <a:p>
            <a:pPr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2022.gada Nordplus projektu konkursu plānots izsludināt </a:t>
            </a: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2021.gada 1.novembrī 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(paredzamais projektu iesniegšanas termiņš</a:t>
            </a: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 2022.gada 1.februāri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 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2021.- 2022. gada konkursos projekti tiek aicināti  uzsvērt </a:t>
            </a:r>
            <a:r>
              <a:rPr b="1" lang="lv-LV" sz="2200" spc="-1" strike="noStrike">
                <a:solidFill>
                  <a:srgbClr val="009a00"/>
                </a:solidFill>
                <a:latin typeface="Calibri"/>
                <a:ea typeface="Verdana"/>
              </a:rPr>
              <a:t>vides, ilgtspējīgas attīstības, zaļās  ekonomikas un ar to saistīto inovāciju attīstību.</a:t>
            </a:r>
            <a:r>
              <a:rPr b="1" lang="ru-RU" sz="2200" spc="-1" strike="noStrike">
                <a:solidFill>
                  <a:srgbClr val="009a00"/>
                </a:solidFill>
                <a:latin typeface="Calibri"/>
                <a:ea typeface="Verdana"/>
              </a:rPr>
              <a:t> </a:t>
            </a:r>
            <a:r>
              <a:rPr b="0" lang="ru-RU" sz="2200" spc="-1" strike="noStrike">
                <a:solidFill>
                  <a:srgbClr val="009a00"/>
                </a:solidFill>
                <a:latin typeface="Calibri"/>
                <a:ea typeface="Verdana"/>
              </a:rPr>
              <a:t>(</a:t>
            </a:r>
            <a:r>
              <a:rPr b="0" lang="en-US" sz="2200" spc="-1" strike="noStrike">
                <a:solidFill>
                  <a:srgbClr val="009a00"/>
                </a:solidFill>
                <a:latin typeface="Calibri"/>
                <a:ea typeface="Verdana"/>
              </a:rPr>
              <a:t>“Enhancing Educational Cooperation for a Greener Future” 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Galvenais dokuments projektu sagatavotājiem  - </a:t>
            </a:r>
            <a:r>
              <a:rPr b="1" lang="lv-LV" sz="2200" spc="-1" strike="noStrike" u="sng">
                <a:solidFill>
                  <a:srgbClr val="002060"/>
                </a:solidFill>
                <a:uFillTx/>
                <a:latin typeface="Calibri"/>
                <a:ea typeface="Verdana"/>
              </a:rPr>
              <a:t>2022. gada Nordplus rokasgrāmata 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tiks publicēta Nordplus oficiālajā mājas lapā pēc  2022. gada konkursa izsludināšana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2021.gada Nordplus rokasgrāmata (angļu valodā) pieejama: https://www.nordplusonline.org/How-to-apply/HANDBOOK#pdf_fr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7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2603160" y="45864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5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r>
              <a:rPr b="1" lang="lv-LV" sz="2500" spc="-1" strike="noStrike" u="sng">
                <a:solidFill>
                  <a:srgbClr val="009a00"/>
                </a:solidFill>
                <a:uFillTx/>
                <a:latin typeface="Verdana"/>
                <a:ea typeface="Verdana"/>
              </a:rPr>
              <a:t>2020. 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gada projektu konkursa rezultātu kopsavilkums programmas oficiālajā portālā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2344680" y="2371320"/>
            <a:ext cx="6354720" cy="4264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264960" indent="-264960" algn="just">
              <a:lnSpc>
                <a:spcPct val="8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 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2021. gadā no visām 8 programmas dalībvalstīm tika </a:t>
            </a:r>
            <a:r>
              <a:rPr b="0" lang="lv-LV" sz="2200" spc="-1" strike="noStrike" u="sng">
                <a:solidFill>
                  <a:srgbClr val="002060"/>
                </a:solidFill>
                <a:uFillTx/>
                <a:latin typeface="Calibri"/>
                <a:ea typeface="Verdana"/>
              </a:rPr>
              <a:t>iesniegti </a:t>
            </a: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331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 projektu pieteikumi ar kopējo pieprasīto grantu 14, 84 milj. eu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2021. gadā kopumā 8 programmas dalībvalstīs tika </a:t>
            </a:r>
            <a:r>
              <a:rPr b="0" lang="lv-LV" sz="2200" spc="-1" strike="noStrike" u="sng">
                <a:solidFill>
                  <a:srgbClr val="002060"/>
                </a:solidFill>
                <a:uFillTx/>
                <a:latin typeface="Calibri"/>
                <a:ea typeface="Verdana"/>
              </a:rPr>
              <a:t>apstiprināti </a:t>
            </a: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 256 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projektu pieteikumi (77%) ar kopējo piešķirto grantu </a:t>
            </a: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8,59 milj. eu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Detalizēta informācija par 2021. gada projektu konkursa rezultātiem pieejama Nordplus programmas oficiālajā portālā </a:t>
            </a:r>
            <a:r>
              <a:rPr b="0" lang="lv-LV" sz="2200" spc="-1" strike="noStrike">
                <a:solidFill>
                  <a:srgbClr val="000000"/>
                </a:solidFill>
                <a:latin typeface="Verdana"/>
                <a:ea typeface="Verdana"/>
              </a:rPr>
              <a:t>https://www.nordplusonline.org/news/nordplus-overview/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0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pic>
        <p:nvPicPr>
          <p:cNvPr id="801" name="Picture 5" descr="A picture containing text, indoor, person&#10;&#10;Description automatically generated"/>
          <p:cNvPicPr/>
          <p:nvPr/>
        </p:nvPicPr>
        <p:blipFill>
          <a:blip r:embed="rId2"/>
          <a:stretch/>
        </p:blipFill>
        <p:spPr>
          <a:xfrm>
            <a:off x="190440" y="2446200"/>
            <a:ext cx="230040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08A4820-70AC-49ED-B744-8BC2CFB2C733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2276280" y="458640"/>
            <a:ext cx="64227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2021.gada projektu konkursa  rezultāti </a:t>
            </a:r>
            <a:r>
              <a:rPr b="1" lang="lv-LV" sz="2800" spc="-1" strike="noStrike" u="sng">
                <a:solidFill>
                  <a:srgbClr val="0b7d91"/>
                </a:solidFill>
                <a:uFillTx/>
                <a:latin typeface="Verdana"/>
                <a:ea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4" name=""/>
          <p:cNvGraphicFramePr/>
          <p:nvPr/>
        </p:nvGraphicFramePr>
        <p:xfrm>
          <a:off x="244440" y="1963800"/>
          <a:ext cx="8745480" cy="3740040"/>
        </p:xfrm>
        <a:graphic>
          <a:graphicData uri="http://schemas.openxmlformats.org/drawingml/2006/table">
            <a:tbl>
              <a:tblPr/>
              <a:tblGrid>
                <a:gridCol w="1249560"/>
                <a:gridCol w="1249200"/>
                <a:gridCol w="1249200"/>
                <a:gridCol w="1249560"/>
                <a:gridCol w="1378080"/>
                <a:gridCol w="1120680"/>
                <a:gridCol w="1249200"/>
              </a:tblGrid>
              <a:tr h="132048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pakšprogram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Kopējais iesniegtais 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rojektu pieteikumu ska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Kopējais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finansētais 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projektu ska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V koordinatoru </a:t>
                      </a:r>
                      <a:r>
                        <a:rPr b="1" lang="lv-LV" sz="1600" spc="-1" strike="noStrike" u="sng">
                          <a:solidFill>
                            <a:srgbClr val="002060"/>
                          </a:solidFill>
                          <a:uFillTx/>
                          <a:latin typeface="Calibri"/>
                          <a:ea typeface="Calibri"/>
                        </a:rPr>
                        <a:t>iesniegto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projektu ska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dca8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V koordinatoru </a:t>
                      </a:r>
                      <a:r>
                        <a:rPr b="1" lang="lv-LV" sz="1600" spc="-1" strike="noStrike" u="sng">
                          <a:solidFill>
                            <a:srgbClr val="002060"/>
                          </a:solidFill>
                          <a:uFillTx/>
                          <a:latin typeface="Calibri"/>
                          <a:ea typeface="Calibri"/>
                        </a:rPr>
                        <a:t>finansēto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 projektu ska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dca8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V %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no kopējā finansēto projektu skai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dca8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V koordinēto projektu budžets (EU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dca8"/>
                    </a:solidFill>
                  </a:tcPr>
                </a:tc>
              </a:tr>
              <a:tr h="6058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9a00"/>
                          </a:solidFill>
                          <a:latin typeface="Calibri"/>
                          <a:ea typeface="Calibri"/>
                        </a:rPr>
                        <a:t>Pieaugušo izglītīb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9a00"/>
                          </a:solidFill>
                          <a:latin typeface="Calibri"/>
                          <a:ea typeface="Calibri"/>
                        </a:rPr>
                        <a:t>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9a00"/>
                          </a:solidFill>
                          <a:latin typeface="Calibri"/>
                          <a:ea typeface="Calibri"/>
                        </a:rPr>
                        <a:t>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9a00"/>
                          </a:solidFill>
                          <a:latin typeface="Calibri"/>
                          <a:ea typeface="Calibri"/>
                        </a:rPr>
                        <a:t>26 (33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9a00"/>
                          </a:solidFill>
                          <a:latin typeface="Calibri"/>
                          <a:ea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9a00"/>
                          </a:solidFill>
                          <a:latin typeface="Calibri"/>
                          <a:ea typeface="Calibri"/>
                        </a:rPr>
                        <a:t>3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9a00"/>
                          </a:solidFill>
                          <a:latin typeface="Calibri"/>
                          <a:ea typeface="Calibri"/>
                        </a:rPr>
                        <a:t>5147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Jaunieš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5 (22 %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397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8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ugstākās izglītīb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1 (8%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368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Horizontāl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 (10%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189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Valod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 (4,5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7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KOP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6 (17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9</a:t>
                      </a: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 147 73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Title 1"/>
          <p:cNvSpPr/>
          <p:nvPr/>
        </p:nvSpPr>
        <p:spPr>
          <a:xfrm>
            <a:off x="2292480" y="473040"/>
            <a:ext cx="624204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Verdana"/>
              </a:rPr>
              <a:t>Nordplus programmas atbalstīto projektu skaits un piešķirtais finansējums Latvijas organizācijām 2008. – 2021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Text Placeholder 3"/>
          <p:cNvSpPr/>
          <p:nvPr/>
        </p:nvSpPr>
        <p:spPr>
          <a:xfrm flipV="1" rot="10800000">
            <a:off x="0" y="5979960"/>
            <a:ext cx="914400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Kopumā visās Nordplus apakšprogrammās no 2008. līdz 2021. gadam apstiprināti </a:t>
            </a:r>
            <a:r>
              <a:rPr b="1" lang="lv-LV" sz="1500" spc="-1" strike="noStrike">
                <a:solidFill>
                  <a:srgbClr val="002060"/>
                </a:solidFill>
                <a:latin typeface="Verdana"/>
              </a:rPr>
              <a:t>497 </a:t>
            </a: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Latvijas</a:t>
            </a:r>
            <a:r>
              <a:rPr b="1" lang="lv-LV" sz="15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iesniedzēju (koordinatoru) projekti par kopējo summu ~ </a:t>
            </a:r>
            <a:r>
              <a:rPr b="1" lang="lv-LV" sz="1500" spc="-1" strike="noStrike">
                <a:solidFill>
                  <a:srgbClr val="002060"/>
                </a:solidFill>
                <a:latin typeface="Verdana"/>
              </a:rPr>
              <a:t>9 miljoni eiro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7" name="Chart 4" descr=""/>
          <p:cNvPicPr/>
          <p:nvPr/>
        </p:nvPicPr>
        <p:blipFill>
          <a:blip r:embed="rId1"/>
          <a:stretch/>
        </p:blipFill>
        <p:spPr>
          <a:xfrm>
            <a:off x="158760" y="1652760"/>
            <a:ext cx="8862840" cy="41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14:46:47Z</dcterms:created>
  <dc:creator>Dagnija</dc:creator>
  <dc:description/>
  <dc:language>en-US</dc:language>
  <cp:lastModifiedBy>Linards Deidulis</cp:lastModifiedBy>
  <cp:lastPrinted>2019-09-16T10:27:40Z</cp:lastPrinted>
  <dcterms:modified xsi:type="dcterms:W3CDTF">2021-09-07T10:35:50Z</dcterms:modified>
  <cp:revision>226</cp:revision>
  <dc:subject/>
  <dc:title>PowerPoint Presentation</dc:title>
</cp:coreProperties>
</file>